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303120"/>
            <a:ext cx="14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6A21-FC55-4209-BA5B-B4C30B342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9AAB-A13B-4DA3-BC7B-EB78E26D0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7222-D86D-4BDE-9CC0-AB2C7E37DA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F661-0CA6-4375-B04D-231339489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4862-F532-4F9A-8499-266E31700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07A3-0A9B-4F3D-82CE-AB558CA9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C2CB-B9C4-4A86-BAB2-480359993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3B12-0450-44C4-B0FF-C8295B051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7AEC-4BE0-4828-B79C-8404106B74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8BC3-74BE-4DEB-A5CE-9E1E57517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23B2-4C0D-4F4B-A4D9-EA498A4B4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3F96-5E56-4F65-BE3F-5F22EBBED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2D641-0B22-47E8-B493-4507E51D7B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ransition of Slicer2.x Modules to Slicer3: ModelMaker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xtend ModelMaker to use MRML Color nod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Bill Lorensen, GE (consult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44792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44920" y="2057400"/>
            <a:ext cx="3714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Pass in a colour node to the ModelM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ommand line program, name models and colour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ccording to the look up t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1640" y="4921200"/>
            <a:ext cx="675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is project didn't get time devoted to it during programming week. Reloading a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of models requires modification of the CLI archite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200400"/>
            <a:ext cx="379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682720"/>
            <a:ext cx="5029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his is a continuation of a previous programming week project, see next sl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275680" y="5931000"/>
            <a:ext cx="203040" cy="48960"/>
          </a:xfrm>
          <a:prstGeom prst="rect">
            <a:avLst/>
          </a:prstGeom>
          <a:solidFill>
            <a:srgbClr val="f4c098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 Narrow"/>
                <a:ea typeface="msmincho"/>
              </a:rPr>
              <a:t>Migrating Slicer2.x Modules to Slicer3: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  <a:ea typeface="msmincho"/>
              </a:rPr>
              <a:t>Integrate Slicer 2 modules into Slicer 3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280" y="1600200"/>
            <a:ext cx="3657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 </a:t>
            </a: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(algorithm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Nicole Aucoin, BWH (software)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Mathieu Malaterre, Kitware (softwa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Katie Hayes, BWH (test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  <a:ea typeface="msmincho"/>
              </a:rPr>
              <a:t>Bill Lorensen, GE (exec model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5c1a0c"/>
                </a:solidFill>
                <a:latin typeface="Arial Narrow"/>
                <a:ea typeface="msmincho"/>
              </a:rPr>
              <a:t>(clinic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447920"/>
            <a:ext cx="472464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71175"/>
                </a:solidFill>
                <a:latin typeface="Arial Narrow"/>
                <a:ea typeface="msmincho"/>
              </a:rPr>
              <a:t>Algorithm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5240" y="1730520"/>
            <a:ext cx="246204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Software: Port to VTK 5, go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standard tests, move Model M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  <a:ea typeface="msmincho"/>
              </a:rPr>
              <a:t>to Slicer 3 (CLI framework d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8400" y="2606760"/>
            <a:ext cx="7308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461609"/>
                </a:solidFill>
                <a:latin typeface="Arial Narrow"/>
                <a:ea typeface="msmincho"/>
              </a:rPr>
              <a:t>Clinical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41960" y="1170000"/>
            <a:ext cx="3565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8520" y="1176480"/>
            <a:ext cx="668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7200" y="3747960"/>
            <a:ext cx="414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  <a:ea typeface="msmincho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1040" y="4246560"/>
            <a:ext cx="180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222960" y="0"/>
            <a:ext cx="2923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msmincho"/>
              </a:rPr>
              <a:t>2006 Summer Pr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04920" y="219240"/>
            <a:ext cx="5048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spcBef>
                <a:spcPts val="1162"/>
              </a:spcBef>
              <a:spcAft>
                <a:spcPts val="96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62"/>
              </a:spcBef>
              <a:spcAft>
                <a:spcPts val="96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5320" y="4189320"/>
            <a:ext cx="3844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Created nightly regression tests for Bas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vtkTensorUtil, vtkDTMR:I User:Mathieu/Wee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Converted Slicer 2.6 TCL ModelMaker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VTK 5.0 C++ code and created a stand al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executable callable from Slicer3. Picture sh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overlay of Slicer 2 and Slicer 3 models (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  <a:ea typeface="msmincho"/>
              </a:rPr>
              <a:t>due to different decimation class). Project 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65080" y="5229360"/>
            <a:ext cx="1714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6680" y="4253040"/>
            <a:ext cx="1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483240" y="1212840"/>
            <a:ext cx="2660760" cy="5645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02200" y="3886200"/>
            <a:ext cx="2368440" cy="24876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